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666-8DB5-4918-BEC5-38AA66A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458-26AD-4359-919F-3636C2C1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F4C-EE25-4FC4-B603-4BAC2533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2A5-EB36-4408-AD43-4A77C3A4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889-349D-4169-9901-ACF3053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A13-E262-403D-A8F0-E8156FF4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179-4EDF-448F-9836-D6EBE03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B7E-E38F-4C3F-A100-9B76D40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AB0-59F6-4EF9-B22C-CCA5C91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767-13C8-48CC-BA9F-8B382C6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B49-0CE0-4B3C-93E0-AF429EF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824-504B-4790-B1E6-A994B8A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B026-6B87-4493-AD6A-7E7EF9A82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8 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ane, okrem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 už, Pane, okrem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cem v svete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len tvojím učení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lušným sa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mojej biede okrem t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k ma necháp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s´ ma láskou objal než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srdca mier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ím je všetka svet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miem teba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ac nad poklad tvoj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ôžem si pr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to tebe dávam, Pane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sný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vrelou túžbou očak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ny príchod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5:39Z</dcterms:modified>
  <cp:revision>22</cp:revision>
  <dc:subject/>
  <dc:title>Je veľký náš Pán, on slávy je Kráľ Nech do všetkých strán  spev vrúcnych znie chvál.</dc:title>
</cp:coreProperties>
</file>